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1A19-F6ED-4CB2-8521-125345123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7D7C-7675-4084-B00F-66B0D604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AC45-47A3-4D74-8C06-84F1A929C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249E-477A-487F-A54D-D230D2096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7823B-9B07-41EC-A50D-1307675F4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E506-9A69-4901-881F-60119144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96E2-A8E6-4C93-A91D-12A81E71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831A7-A47E-4553-8968-EF2F55E3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DF0F9-D1AD-4880-A448-AE346284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8DE1-B52E-4598-932C-CC6DCA18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27EF7-4002-468C-BA0A-466F5B63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5A3C-68A7-4C88-A93D-15C5114F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C0F0-CFA3-4708-9CCD-F4E08BD2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082E-96EA-47BD-B8AE-E68FB73C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9585-1E84-4CCC-A8E2-78791C73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CDE24-1141-4895-803C-3B6EF0974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C09A-0B4A-4829-BAD3-C5F505D30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DFEB-124D-4885-B776-DB3232A1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08A5-3ACE-4961-BC44-EAFC3B85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3C12-C384-41CD-B0CD-7A3D0B52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892B-4D07-444D-83C8-AC64FA63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7639-16BE-4F5B-A33E-E73007F0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062F-6430-4E78-ACB4-21A0D2D7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56BB-1846-470D-9A2A-74EDA2B7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9AE8-2C38-4E4F-92D2-8A73987092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2579-9874-4D65-ACB0-18B7A735F5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igurative Language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om Definitions and Examp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ndscape chart (and modified on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 lyric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line lesson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igurative Languag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scribing something by comparing it to something els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es beyond literal meaning for new ideas or insights on subj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re are many ways to do thi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ou see it and hear it everyday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8" descr="word_anaylsis_small"/>
          <p:cNvPicPr/>
          <p:nvPr/>
        </p:nvPicPr>
        <p:blipFill>
          <a:blip r:embed="rId1"/>
          <a:stretch/>
        </p:blipFill>
        <p:spPr>
          <a:xfrm>
            <a:off x="4495680" y="2362320"/>
            <a:ext cx="43815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imi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rect comparison between two unlike things, using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ike and 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: She is as busy as a be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re you’ve heard 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keep on crying but it doesn't seem to help at all.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ith every single tear drop it's like another rain drop fal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No matter what I do I can't stop the rain.”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Ne-Yo Can’t Stop the Rai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etapho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plied comparison between two unlike things – sometimes using a form of a BEING VER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T using like, 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ing verbs: am, is, are, was, were, be, being, be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ere you’ve heard i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ruth is hiding in your ey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and it’s hanging on your tongue, Just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boiling in my bloo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but you think I can’t see”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aramore – Decod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ok at him, look at me, that boy is bad, and honestly,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he is a wolf in disguis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but I can’t stop looking in those evil eyes”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dy Gaga - Monst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lliter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peated consonant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ound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ccurring at the beginning of words or within wo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iteration always has alike amounts of soun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re you’ve heard 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 keep your Love Locked down, your love locked down, you loose”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ve Locked Down - Kanye We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We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keep quite caus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we’re dead if they knew”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ve Story – Taylor Swif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ersonific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ives qualities of a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erso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to an animal, an object, or an ide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uthors use to communicate feeling or attitud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re you’ve heard 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d the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hadow of the Day, will embrace the worl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in grey, and the sun will set for you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hadow of the Day – Linkin Par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 look at the world, and I notice it’s turning, while my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guitar gently weep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ile My Guitar Gently Weeps - Beat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omatopoe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ds to mimic sou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eal to sense of hearing and bring description to l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re you’ve heard 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'm so 3008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ou so 2000 and lat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 got that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boom, boom, boom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at future boom, boom, boom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t me get it now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oom Boom Pow – Black Eyed Pe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“Tonight, Imma fight till we see the sun light,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ick toc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on the clock, but the party don’t stop, no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ick Tock - Kesh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yperbo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aggerated statement used to heighten effec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mphasize a poi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YPE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= extra or exaggerated energ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re you’ve heard 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ut I would walk 500 miles, and I would walk 500 more, just to be the man who walked 1000 miles.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’m Gonna Be – The Proclaimer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uck Norris does not do push-ups.  He pushes the world dow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is charm is so contagious, vaccines were created for it. – The Most Interesting Man in the Worl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'm Already There by Lonestar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ardrops on My Guitar by Taylor Swif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ove Song by Sara Bareill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ynamite by Taio Cruz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reathe (2 AM) by Anna Nalick (this one uses similies as well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ike a G6 by Far East Movemen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ip My Hair by Willow (Willow Smith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Remedy, Jason Mraz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ost!, Coldplay(Acoustic piano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ost?, Coldplay(Organ-like sound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ollipop, Mika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en Im Gone, Simple Plan(just a bit figurative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op Suey, System Of A Dow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ordplay by Jason Mraz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t Whole Songs of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ihanna – take a bo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Kanye West – Love Lock Dow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aramore – Deco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aylor Swift – Love Sto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ady Gaga – Mons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hadow of the day – Linkin Park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ip Hop is Dead – N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op and Stare – One Republi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atskat – The Roo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wl City Firefl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9:32:27Z</dcterms:created>
  <dc:creator>Amanda</dc:creator>
  <dc:description/>
  <dc:language>en-US</dc:language>
  <cp:lastModifiedBy>Jeanette</cp:lastModifiedBy>
  <dcterms:modified xsi:type="dcterms:W3CDTF">2010-12-12T21:19:01Z</dcterms:modified>
  <cp:revision>11</cp:revision>
  <dc:subject/>
  <dc:title>Figurative Language </dc:title>
</cp:coreProperties>
</file>